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2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3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4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E523434-D0AA-46F2-BD7A-811490D606E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week three countries released their Open Government Initiativ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K, Australia, and US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lot of similarities, a lot of open questions. . . . Twitter is on over-drive on this, e.g., “who writes the newly-required agency plans?  Policy, Public Affairs, New Media offices, CIOs?  .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l Time News Reports: 12-8-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 Gov Exe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 Wash Pos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 Federal News Radi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ring before Senate Budget Committee tomorrow:  “Data-Driven Performance: Using Technology to Deliver Results.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ngress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gressional Management Foundation’s “Center for Effective Civic Discourse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ates-Localiti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irfax County Budg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akland, Californi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io Redistric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ternational Effort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 commit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K – e-pet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90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d yesterday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MB Guid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ency-by-Agency mini-case studies of transparency, participation, collabo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“Open Government Progress Report to the American People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n Government Direc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whitehouse.gov/the_press_office/Transparency_and_Open_Government/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 House Players in Open Government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h Noveck: OST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eesh Chopr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vek Kundra, CIO – OM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erie Jarrett, Office of Public Eng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on Phillips, Katie Stanton – Office of Communications, New Medi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ve McClure – GSA Office of Citizen Serv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nal Shah -- Office of Social Innovation and Civic Particip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* * * * * * * 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n for Questions:  http://www.whitehouse.gov/Openforquestions/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:  Alec Ross, senior advisor for Innov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businessofgovernment.org/main/interviews/profile/index.asp?PID=38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s.Gov Link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s://www.apps.gov/cloud/advantage/main/start_page.d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iness Ap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ivity Ap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ud IT Serv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Media Ap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B106-9F6F-403F-99E5-7EB581D20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761840"/>
            <a:ext cx="731520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3929400"/>
            <a:ext cx="731520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D061-3006-4734-9453-F67D3AA9B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761840"/>
            <a:ext cx="356976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20280" y="1761840"/>
            <a:ext cx="356976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3929400"/>
            <a:ext cx="356976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20280" y="3929400"/>
            <a:ext cx="356976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F7CD-1CBD-42F8-AD10-653B4DDDE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1761840"/>
            <a:ext cx="235512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44800" y="1761840"/>
            <a:ext cx="235512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18000" y="1761840"/>
            <a:ext cx="235512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3929400"/>
            <a:ext cx="235512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44800" y="3929400"/>
            <a:ext cx="235512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18000" y="3929400"/>
            <a:ext cx="235512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85AE-E925-4C16-9368-2E9EFE571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1761840"/>
            <a:ext cx="7315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761840"/>
            <a:ext cx="7315200" cy="414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761840"/>
            <a:ext cx="3569760" cy="414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0280" y="1761840"/>
            <a:ext cx="3569760" cy="414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71240" y="914400"/>
            <a:ext cx="73278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761840"/>
            <a:ext cx="356976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20280" y="1761840"/>
            <a:ext cx="3569760" cy="414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929400"/>
            <a:ext cx="356976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1761840"/>
            <a:ext cx="7315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2DD7-8954-470E-A7E8-065454735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761840"/>
            <a:ext cx="3569760" cy="414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0280" y="1761840"/>
            <a:ext cx="356976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20280" y="3929400"/>
            <a:ext cx="356976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1761840"/>
            <a:ext cx="356976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0280" y="1761840"/>
            <a:ext cx="356976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3929400"/>
            <a:ext cx="731520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761840"/>
            <a:ext cx="731520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600" y="3929400"/>
            <a:ext cx="731520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1761840"/>
            <a:ext cx="356976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20280" y="1761840"/>
            <a:ext cx="356976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3929400"/>
            <a:ext cx="356976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20280" y="3929400"/>
            <a:ext cx="356976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1761840"/>
            <a:ext cx="235512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44800" y="1761840"/>
            <a:ext cx="235512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18000" y="1761840"/>
            <a:ext cx="235512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600" y="3929400"/>
            <a:ext cx="235512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44800" y="3929400"/>
            <a:ext cx="235512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18000" y="3929400"/>
            <a:ext cx="235512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761840"/>
            <a:ext cx="7315200" cy="414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E2B3-8C39-464D-8DF7-77AF88942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761840"/>
            <a:ext cx="3569760" cy="414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0280" y="1761840"/>
            <a:ext cx="3569760" cy="414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976A8-B9BB-4F6F-A625-E2D208962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45E6-D4B4-4481-8CA9-3F04AE172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71240" y="914400"/>
            <a:ext cx="73278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2A78-303A-4FB4-A4AB-F8C5E2777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761840"/>
            <a:ext cx="356976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0280" y="1761840"/>
            <a:ext cx="3569760" cy="414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3929400"/>
            <a:ext cx="356976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FCF3-5989-4612-A568-6169EDD68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761840"/>
            <a:ext cx="3569760" cy="414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0280" y="1761840"/>
            <a:ext cx="356976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20280" y="3929400"/>
            <a:ext cx="356976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32372-68DF-4690-9175-BA3F85C4B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761840"/>
            <a:ext cx="356976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0280" y="1761840"/>
            <a:ext cx="356976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929400"/>
            <a:ext cx="7315200" cy="19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4F84-890C-403E-B0AE-9C9836A8C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736560"/>
            <a:ext cx="4413240" cy="5810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275520"/>
            <a:ext cx="9144000" cy="582480"/>
          </a:xfrm>
          <a:prstGeom prst="rect">
            <a:avLst/>
          </a:prstGeom>
          <a:solidFill>
            <a:srgbClr val="5378b3"/>
          </a:solidFill>
          <a:ln w="9360">
            <a:solidFill>
              <a:srgbClr val="5378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820800"/>
          </a:xfrm>
          <a:prstGeom prst="rect">
            <a:avLst/>
          </a:prstGeom>
          <a:solidFill>
            <a:srgbClr val="5378b3"/>
          </a:solidFill>
          <a:ln w="9360">
            <a:solidFill>
              <a:srgbClr val="5378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761840"/>
            <a:ext cx="7315200" cy="414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51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3680">
              <a:lnSpc>
                <a:spcPct val="10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52640" indent="-181080">
              <a:lnSpc>
                <a:spcPct val="104000"/>
              </a:lnSpc>
              <a:spcBef>
                <a:spcPts val="451"/>
              </a:spcBef>
              <a:buClr>
                <a:srgbClr val="5378b3"/>
              </a:buClr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80960" indent="-145800">
              <a:lnSpc>
                <a:spcPct val="10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380960" indent="-14580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380960" indent="-14580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1366920" y="6534000"/>
            <a:ext cx="1218960" cy="324000"/>
          </a:xfrm>
          <a:prstGeom prst="rect">
            <a:avLst/>
          </a:prstGeom>
          <a:noFill/>
          <a:ln w="0">
            <a:noFill/>
          </a:ln>
        </p:spPr>
        <p:txBody>
          <a:bodyPr lIns="144000" rIns="90000" tIns="684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B7A5-6F85-4E37-93EC-E2D33CB25B50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73920" y="6553080"/>
            <a:ext cx="178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© Copyright IBM Corporation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307800" y="6440400"/>
            <a:ext cx="62244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 flipV="1">
            <a:off x="1190520" y="5981400"/>
            <a:ext cx="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362240" y="1625760"/>
            <a:ext cx="732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1190520" y="403200"/>
            <a:ext cx="0" cy="426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4"/>
          <a:stretch/>
        </p:blipFill>
        <p:spPr>
          <a:xfrm>
            <a:off x="6811920" y="119160"/>
            <a:ext cx="1889280" cy="60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486080"/>
            <a:ext cx="3411360" cy="5367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77880" y="2373120"/>
            <a:ext cx="526428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182760" y="4192200"/>
            <a:ext cx="0" cy="10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5378b3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182760" y="755640"/>
            <a:ext cx="0" cy="84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834160" y="609480"/>
            <a:ext cx="2819160" cy="905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5378b3"/>
          </a:solidFill>
          <a:ln w="9360">
            <a:solidFill>
              <a:srgbClr val="5378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11840" y="6348240"/>
            <a:ext cx="1938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 Copyright IBM Corporation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Arial"/>
            </a:endParaRPr>
          </a:p>
          <a:p>
            <a:pPr lvl="1" marL="228600" indent="0" algn="ctr">
              <a:lnSpc>
                <a:spcPct val="10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117360" algn="ctr">
              <a:lnSpc>
                <a:spcPct val="104000"/>
              </a:lnSpc>
              <a:spcBef>
                <a:spcPts val="349"/>
              </a:spcBef>
              <a:buClr>
                <a:srgbClr val="5378b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5800" indent="185760" algn="ctr">
              <a:lnSpc>
                <a:spcPct val="104000"/>
              </a:lnSpc>
              <a:spcBef>
                <a:spcPts val="300"/>
              </a:spcBef>
              <a:buClr>
                <a:srgbClr val="5378b3"/>
              </a:buClr>
              <a:buFont typeface="SimSu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320760" algn="ctr">
              <a:lnSpc>
                <a:spcPct val="104000"/>
              </a:lnSpc>
              <a:spcBef>
                <a:spcPts val="249"/>
              </a:spcBef>
              <a:buClr>
                <a:srgbClr val="5378b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320760"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320760"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hitehouse.gov/open" TargetMode="External"/><Relationship Id="rId2" Type="http://schemas.openxmlformats.org/officeDocument/2006/relationships/hyperlink" Target="http://www.usaservices.gov/pdf_docs/EngagingCitizens.pdf" TargetMode="External"/><Relationship Id="rId3" Type="http://schemas.openxmlformats.org/officeDocument/2006/relationships/hyperlink" Target="http://www.usaservices.gov/events_news/documents/Transparency.pdf" TargetMode="External"/><Relationship Id="rId4" Type="http://schemas.openxmlformats.org/officeDocument/2006/relationships/hyperlink" Target="http://www.americaspeaks.org/index.cfm?fuseaction=Page.ViewPage&amp;PageID=925" TargetMode="External"/><Relationship Id="rId5" Type="http://schemas.openxmlformats.org/officeDocument/2006/relationships/hyperlink" Target="http://www.businessofgovernment.org/publications/grant_reports/details/index.asp?GID=239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377880" y="4095360"/>
            <a:ext cx="5243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000" bIns="46800" anchor="t">
            <a:noAutofit/>
          </a:bodyPr>
          <a:p>
            <a:pPr>
              <a:lnSpc>
                <a:spcPct val="10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Arial"/>
              </a:rPr>
              <a:t>Advanced Learning Institute</a:t>
            </a:r>
            <a:endParaRPr b="0" lang="en-US" sz="2000" spc="-1" strike="noStrike">
              <a:solidFill>
                <a:srgbClr val="727272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7272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Arial"/>
              </a:rPr>
              <a:t>December 2009</a:t>
            </a:r>
            <a:endParaRPr b="0" lang="en-US" sz="2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342960" y="2398680"/>
            <a:ext cx="52642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ama Administration: </a:t>
            </a:r>
            <a:br>
              <a:rPr sz="32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tatus Update on Its Open Government Initi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3320" y="548964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hn Kamensky, Senior Fe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ohn.Kamensky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2-515-4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y OMB Activit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730520"/>
            <a:ext cx="7315200" cy="441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ransparency, accountability, participation, collaboration by 1/22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 guidance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qu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federal spending data by 2/6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Government Dashbo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2/6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 guidance on use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entiv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improve Open Gov by 3/8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 guidance on feder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nding transpar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4/7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review of OMB policies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impedi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propose revisions by 4/7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2BCA-C00C-4800-9D09-D5B5FE10DC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y Agency Activit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809360"/>
            <a:ext cx="7315200" cy="414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99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 at least 3 “high value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s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1/22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4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99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ior offi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ountable for quality of spending info by 1/22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4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99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Government Web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2/6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4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99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Government Pl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4/7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4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99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log of FOIA reques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10 percent by 12/8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7916-8AF2-4925-AF76-96F0D19BCB1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ements of Agency Open Government Pla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743120"/>
            <a:ext cx="7061040" cy="440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90000"/>
              </a:lnSpc>
              <a:spcBef>
                <a:spcPts val="499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reflect “extensive” input of agency leaders, employees, public, experts, and include timelines for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0000"/>
              </a:lnSpc>
              <a:spcBef>
                <a:spcPts val="499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99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arency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ory agency hi-value info; detail compliance with existing efforts (e.g., Data.go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99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ip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links to existing participatory processes; develop new feedback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99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use of tech platforms, incen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99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agship Initi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undertake at least one; explain how it improves agency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3DFF-C9FA-4682-90D3-81007D374CD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58680" y="1687680"/>
            <a:ext cx="3703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343080" indent="-343080">
              <a:lnSpc>
                <a:spcPct val="10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ite House Open Gov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Bef>
                <a:spcPts val="349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9900"/>
                </a:solidFill>
                <a:uFillTx/>
                <a:latin typeface="Arial"/>
                <a:hlinkClick r:id="rId1"/>
              </a:rPr>
              <a:t>http://www.whitehouse.gov/open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SA  Intergovernmental Solutions News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Bef>
                <a:spcPts val="400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ngaging Citizens in Government” (Fall 20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Bef>
                <a:spcPts val="400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2"/>
              </a:rPr>
              <a:t>http://www.usaservices.gov/pdf_docs/EngagingCitizens.pdf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Bef>
                <a:spcPts val="400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ransparency and Open Government” (Spring 20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Bef>
                <a:spcPts val="349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9900"/>
                </a:solidFill>
                <a:uFillTx/>
                <a:latin typeface="Arial"/>
                <a:hlinkClick r:id="rId3"/>
              </a:rPr>
              <a:t>http://www.usaservices.gov/events_news/documents/Transparency.pdf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57920" y="1752480"/>
            <a:ext cx="37033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engthening Our Nation’s Democracy”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349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9900"/>
                </a:solidFill>
                <a:uFillTx/>
                <a:latin typeface="Arial"/>
                <a:hlinkClick r:id="rId4"/>
              </a:rPr>
              <a:t>http://www.americaspeaks.org/index.cfm?fuseaction=Page.ViewPage&amp;PageID=925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BM Center Repo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Public Deliberation:  A Manager’s Guide to Citizen Engage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349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9900"/>
                </a:solidFill>
                <a:uFillTx/>
                <a:latin typeface="Arial"/>
                <a:hlinkClick r:id="rId5"/>
              </a:rPr>
              <a:t>http://www.businessofgovernment.org/publications/grant_reports/details/index.asp?GID=239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69AED-DFBC-4B2D-9381-46381AE14A25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1835280"/>
            <a:ext cx="703404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 fontScale="77000"/>
          </a:bodyPr>
          <a:p>
            <a:pPr marL="267480" indent="-26748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ama’s Transparent and Open Government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House T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520" indent="-258840">
              <a:lnSpc>
                <a:spcPct val="94000"/>
              </a:lnSpc>
              <a:spcBef>
                <a:spcPts val="400"/>
              </a:spcBef>
              <a:buClr>
                <a:srgbClr val="5378b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4520" indent="-258840">
              <a:lnSpc>
                <a:spcPct val="94000"/>
              </a:lnSpc>
              <a:spcBef>
                <a:spcPts val="400"/>
              </a:spcBef>
              <a:buClr>
                <a:srgbClr val="5378b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idea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4520" indent="-258840">
              <a:lnSpc>
                <a:spcPct val="94000"/>
              </a:lnSpc>
              <a:spcBef>
                <a:spcPts val="400"/>
              </a:spcBef>
              <a:buClr>
                <a:srgbClr val="5378b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spe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4520" indent="-258840">
              <a:lnSpc>
                <a:spcPct val="94000"/>
              </a:lnSpc>
              <a:spcBef>
                <a:spcPts val="400"/>
              </a:spcBef>
              <a:buClr>
                <a:srgbClr val="5378b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4520" indent="-258840">
              <a:lnSpc>
                <a:spcPct val="94000"/>
              </a:lnSpc>
              <a:spcBef>
                <a:spcPts val="400"/>
              </a:spcBef>
              <a:buClr>
                <a:srgbClr val="5378b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s of OMB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89160" y="5291280"/>
            <a:ext cx="7154640" cy="824040"/>
          </a:xfrm>
          <a:prstGeom prst="rect">
            <a:avLst/>
          </a:prstGeom>
          <a:solidFill>
            <a:srgbClr val="c7cd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y Administration is committed to creating an unprecedented level of openness in Government. . . Openness will strengthen our democracy and promote efficiency and effectiveness in Government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54640" y="2970360"/>
            <a:ext cx="2660760" cy="178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FA93-F805-4B65-A9BC-4D66E056F2E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ama’s Transparency and Open Government Mem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761840"/>
            <a:ext cx="7315200" cy="414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99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vernment should be trans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cies should use technology to put information about their operations and decision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cies should solicit feedback to identify info of greatest use to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lnSpc>
                <a:spcPct val="10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99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vernment should be particip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cies should offer increased opportunities to participate in policyma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lnSpc>
                <a:spcPct val="10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99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vernment should be collabo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cies should engage Americans in the work of their ag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cies should solicit feedback to assess and improve collab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B36F-8BA0-4A32-B077-1C8820E1E95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olution of White House Implementation Effor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761840"/>
            <a:ext cx="3357720" cy="436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White House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51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v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51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e of p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i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51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for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Deadline:  May 21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from federal MAX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from Advocacy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16520" y="1787400"/>
            <a:ext cx="360684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izen Feedback Efforts, post-May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House Website, B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- Brainst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- B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I -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ember 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MB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16720" y="4429080"/>
            <a:ext cx="1630080" cy="163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6ACF-CAA0-4C99-80F2-E524C7F4E7C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en Data Initiativ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761840"/>
            <a:ext cx="7315200" cy="414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00200" y="2217600"/>
            <a:ext cx="6405480" cy="4003920"/>
          </a:xfrm>
          <a:prstGeom prst="rect">
            <a:avLst/>
          </a:prstGeom>
          <a:ln w="9360">
            <a:solidFill>
              <a:srgbClr val="061dc8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9FA1-AB44-49F7-8093-28FDFA7E31C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en Idea Generation, Policy-Input Initiativ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761840"/>
            <a:ext cx="7315200" cy="414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ennial Homeland Security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C Flu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A Regulation Website Re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terans Affairs’ Innovation Con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B’s SAVE A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HS’s code-a-thon to fix National Health Informatio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A’s Idea 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Department Communities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72280" y="2548080"/>
            <a:ext cx="3323880" cy="2077920"/>
          </a:xfrm>
          <a:prstGeom prst="rect">
            <a:avLst/>
          </a:prstGeom>
          <a:ln w="9360">
            <a:solidFill>
              <a:srgbClr val="061dc8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3865-591B-4CC4-96DE-43CC04909D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en Spending Initiativ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861920"/>
            <a:ext cx="3108240" cy="414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60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Spending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60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very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60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deral IT Spending Dash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dashboard.jpg"/>
          <p:cNvPicPr/>
          <p:nvPr/>
        </p:nvPicPr>
        <p:blipFill>
          <a:blip r:embed="rId1"/>
          <a:stretch/>
        </p:blipFill>
        <p:spPr>
          <a:xfrm>
            <a:off x="4089240" y="2752560"/>
            <a:ext cx="381024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983C-CB1D-416F-B989-59647D28C81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en Government Platform Initiativ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1761840"/>
            <a:ext cx="2425680" cy="414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60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p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60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Communities of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601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Innovation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657600" y="2085840"/>
            <a:ext cx="4995720" cy="3122640"/>
          </a:xfrm>
          <a:prstGeom prst="rect">
            <a:avLst/>
          </a:prstGeom>
          <a:ln w="9360">
            <a:solidFill>
              <a:srgbClr val="061dc8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7B7E-849C-4452-8A4E-9624C1557EE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327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MB Guidance: Open Government Directiv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1762200"/>
            <a:ext cx="731520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82600" indent="-282600">
              <a:lnSpc>
                <a:spcPct val="94000"/>
              </a:lnSpc>
              <a:spcBef>
                <a:spcPts val="499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sh Government Information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2480" indent="-18576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umption of openness, publish in open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4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4000"/>
              </a:lnSpc>
              <a:spcBef>
                <a:spcPts val="499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 Quality of Governme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2480" indent="-18576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of federal spending data, long term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4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4000"/>
              </a:lnSpc>
              <a:spcBef>
                <a:spcPts val="499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, Institutionalize Culture of Open 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2480" indent="-18576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ies create Open Gov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480" indent="-18576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B creates Open Gov Dash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480" indent="-18576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agency working group, best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4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4000"/>
              </a:lnSpc>
              <a:spcBef>
                <a:spcPts val="499"/>
              </a:spcBef>
              <a:buClr>
                <a:srgbClr val="5378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Enabling Policy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2480" indent="-185760">
              <a:lnSpc>
                <a:spcPct val="94000"/>
              </a:lnSpc>
              <a:spcBef>
                <a:spcPts val="451"/>
              </a:spcBef>
              <a:buClr>
                <a:srgbClr val="5378b3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policy barriers, rev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913440" y="43560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26AD-92AE-49AB-B786-1640063AE1D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22:38:13Z</dcterms:created>
  <dc:creator>IBM_USER</dc:creator>
  <dc:description/>
  <dc:language>en-US</dc:language>
  <cp:lastModifiedBy>Administrator</cp:lastModifiedBy>
  <dcterms:modified xsi:type="dcterms:W3CDTF">2009-12-09T16:04:22Z</dcterms:modified>
  <cp:revision>84</cp:revision>
  <dc:subject/>
  <dc:title>Four Strategies to Transform State Governance</dc:title>
</cp:coreProperties>
</file>